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839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79160"/>
            <a:ext cx="7754760" cy="64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91200" y="838080"/>
            <a:ext cx="1981440" cy="63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600" y="2104920"/>
            <a:ext cx="8481960" cy="43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Unicode MS"/>
              </a:rPr>
              <a:t>Câmara Técnica de Assuntos Legais e Institu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JULIO THADEU SILVA KETTELH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SRH/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João Pessoa – P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22 de novemb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167004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760" y="2490480"/>
            <a:ext cx="8610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775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CRIAÇÃO: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Resolução CNRH nº 4, de 10 de junho d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REUNIÃO DE INSTALAÇÃO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16/12/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Presidente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Julio Thadeu Silva Kettelhut (julio.kettelhut@mma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Relator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Luiz Claúdio de Castro Figuei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(luiz.figueiredo@cnrh-srh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Reuniões: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 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338200"/>
            <a:ext cx="85341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a) Acompanhar, analisar e emitir parecer sobre a Legislação Nacional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b) As competências constantes do Regimento Interno e outras que vierem a ser delegadas pelo Plenário do CNR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280099"/>
                </a:solidFill>
                <a:latin typeface="Arial Unicode MS"/>
              </a:rPr>
              <a:t>No Regimento Inte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(§1°, art. 22) - analisar as propostas de criação de Câmaras Técnicas (pertinência de sua criação; atribuições; composi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80099"/>
                </a:solidFill>
                <a:latin typeface="Arial Unicode MS"/>
              </a:rPr>
              <a:t>(§1°, art. 12) - verificar a compatibilização das propostas de resolução à legislação pertin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18680" y="1490400"/>
            <a:ext cx="84870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149220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160" y="1905120"/>
            <a:ext cx="43639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COMPOSIÇÃO (17 membro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MA- Secretaria de Recursos Hídricos (Presid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MA- Agência Nacional de Ág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inistério da Justi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inistério da Integração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inistério das C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Ministério das Minas 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selhos Estaduais de Recursos Hídricos – São Paulo/Rio de Jan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selhos Estaduais de Recursos Hídricos – Piauí/Serg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selhos Estaduais de Recursos Hídricos – Espírito Santo/Minas Gera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26160" y="1905120"/>
            <a:ext cx="43639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selhos Estaduais de Recursos Hídricos – Ceará/Ba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Indú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Pescadores e usuários de recursos hídricos para lazer e tur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mitês de bacias hidrográ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Consórcios e associações intermunicipais de bacias hidrográ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Organizações técnicas e de ensino e pesqu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0099"/>
                </a:solidFill>
                <a:latin typeface="Arial Unicode MS"/>
              </a:rPr>
              <a:t>Organizações não governam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Produ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ff0000"/>
                </a:solidFill>
                <a:latin typeface="Arial Unicode MS"/>
              </a:rPr>
              <a:t>Resoluções (mais significativ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05, de 2000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critérios gerais para a instituição, organização e funcionamento dos Comitês de bacia hidrográfica; (e suas alterações: 18 e 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14, de 2000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procedimentos de indicação dos representantes dos CERHs, usuários e sociedade civil no CNR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19, de 2002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aprova o valor de cobrança pelo uso dos recursos hídricos da Bacia Hidrográfica do Rio Paraíba do Su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26, de 2002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autoriza o Comitê para Integração da Bacia do Rio Paraíba do Sul - CEIVAP a criar sua Agência de Águ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33 e 34, de 2003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composição e suplências das Câmaras Técnic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38, de 2004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delega competências à AGEV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 u="sng">
                <a:solidFill>
                  <a:srgbClr val="280099"/>
                </a:solidFill>
                <a:uFillTx/>
                <a:latin typeface="Arial Unicode MS"/>
              </a:rPr>
              <a:t>51, de 2005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institui a Câmara Técnica de Integração da Gestão das Bacias Hidrográficas e dos Sistemas Estuarinos e Zona Costei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18680" y="149220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 Unicode MS"/>
              </a:rPr>
              <a:t>Moções (mais signific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en-GB" sz="1600" spc="-1" strike="noStrike" u="sng">
                <a:solidFill>
                  <a:srgbClr val="280099"/>
                </a:solidFill>
                <a:uFillTx/>
                <a:latin typeface="Arial Unicode MS"/>
              </a:rPr>
              <a:t>01, de 2000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en-GB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ampliação da participação dos usuários e da sociedade civil no CNR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 u="sng">
                <a:solidFill>
                  <a:srgbClr val="280099"/>
                </a:solidFill>
                <a:uFillTx/>
                <a:latin typeface="Arial Unicode MS"/>
              </a:rPr>
              <a:t>02, de 2000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en-GB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proposição de alteração do número de conselheiros do CNR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 u="sng">
                <a:solidFill>
                  <a:srgbClr val="280099"/>
                </a:solidFill>
                <a:uFillTx/>
                <a:latin typeface="Arial Unicode MS"/>
              </a:rPr>
              <a:t>07, de 2001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medidas necessárias para a instituição da "Semana Nacional da Água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 u="sng">
                <a:solidFill>
                  <a:srgbClr val="280099"/>
                </a:solidFill>
                <a:uFillTx/>
                <a:latin typeface="Arial Unicode MS"/>
              </a:rPr>
              <a:t>11, de 2002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en-GB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en-GB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alterações no texto do Projeto de Lei nº 4.147, que dispõe sobre a Política Nacional de Sanea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 u="sng">
                <a:solidFill>
                  <a:srgbClr val="280099"/>
                </a:solidFill>
                <a:uFillTx/>
                <a:latin typeface="Arial Unicode MS"/>
              </a:rPr>
              <a:t>26, de 2004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providências relativas ao não contingenciamento dos recursos oriundos da cobrança pelo uso da águ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 u="sng">
                <a:solidFill>
                  <a:srgbClr val="280099"/>
                </a:solidFill>
                <a:uFillTx/>
                <a:latin typeface="Arial Unicode MS"/>
              </a:rPr>
              <a:t>28, de 2004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Recomenda desapensações do Projeto de Lei n° 1.616, de 199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 u="sng">
                <a:solidFill>
                  <a:srgbClr val="280099"/>
                </a:solidFill>
                <a:uFillTx/>
                <a:latin typeface="Arial Unicode MS"/>
              </a:rPr>
              <a:t>30, de 2004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600" spc="-1" strike="noStrike">
                <a:solidFill>
                  <a:srgbClr val="280099"/>
                </a:solidFill>
                <a:latin typeface="Wingdings"/>
                <a:ea typeface="Wingdings"/>
              </a:rPr>
              <a:t></a:t>
            </a:r>
            <a:r>
              <a:rPr b="1" i="1" lang="pt-BR" sz="1600" spc="-1" strike="noStrike">
                <a:solidFill>
                  <a:srgbClr val="280099"/>
                </a:solidFill>
                <a:latin typeface="Arial Unicode MS"/>
              </a:rPr>
              <a:t> manifesta discordâncias ao Relatório “O Estado Real das Águas no Brasil 2003-2004” (Sinops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18680" y="149220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Produ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ff0000"/>
                </a:solidFill>
                <a:latin typeface="Arial Unicode MS"/>
              </a:rPr>
              <a:t>Ou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lteração do Regimento Interno do CNRH (Portaria n° 377, de 200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nálise das propostas de criação de Comitês em bacias de rios de domínio da Uniã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nálise da delegação de competências às entidades delegatárias das funções de Agência de Água (AGEVAP e Consórcio PCJ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Elaboração das propostas de composição das Câmaras Técnic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nálise dos aspectos legais e institucionais da implementação da cobrança pelo uso dos recursos hídricos nas bacias do Paraíba do Sul e do Piracicaba, Capivari e Jundiaí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nálise dos aspectos legais e institucionais das deliberações encaminhadas para deliberação do Plenár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Análise da integração das águas minerais ao sistema de gestão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400" spc="-1" strike="noStrike">
                <a:solidFill>
                  <a:srgbClr val="280099"/>
                </a:solidFill>
                <a:latin typeface="Arial Unicode MS"/>
              </a:rPr>
              <a:t>Decreto n° 5.263, de 2004 (permite custeio da participação de  representantes de ONGs e  Organizações Técnicas  e de Ensino e Pesquis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18680" y="149220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pt-BR" sz="1800" spc="-1" strike="noStrike">
                <a:solidFill>
                  <a:srgbClr val="ff0000"/>
                </a:solidFill>
                <a:latin typeface="Arial Unicode MS"/>
              </a:rPr>
              <a:t>Assuntos em discuss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Integração das políticas públicas de recursos hídricos e de flores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Representatividade nos processos eletivos para o CNR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Análise da Resolução ANA n° 399, de 2004 ( estabelece critérios para a definição de curso de água principal de uma bacia hidrográ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Sistema de Acompanhamento e Implementação da Política Nacional de Recursos Hídric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Sugestões ao PL n° 1.616, de 199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80099"/>
                </a:solidFill>
                <a:latin typeface="Arial Unicode MS"/>
              </a:rPr>
              <a:t>Proposta de Resolução que estabelece os procedimentos, prazos e formas para o estabelecimento das prioridades de aplicação dos recursos da cobranç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18680" y="1492200"/>
            <a:ext cx="8487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de Assuntos Legais e Institucionais</a:t>
            </a:r>
            <a:br>
              <a:rPr sz="3200"/>
            </a:b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86000"/>
            <a:ext cx="83059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 algn="ctr"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                          </a:t>
            </a: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OBRI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05-11-22T13:15:38Z</dcterms:modified>
  <cp:revision>84</cp:revision>
  <dc:subject/>
  <dc:title>Slide 1</dc:title>
</cp:coreProperties>
</file>